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0D1E-4149-4A27-9452-50C5C7923E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28A6-E813-47BE-931F-3A26F3C8600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1A18-7859-45AC-984C-49C49AC4FA2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F621-E72A-45DB-A6AA-1E7743D361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BAA4-6C7C-424D-9BBD-0AA2BA590F2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818F-1934-4C4A-B0A1-DCFA3607D7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CF75-C64D-48D3-84C4-FCAB93A57D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9CE8-7D6D-4C7A-8106-CE5D531198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065C-AD92-4DDB-99FB-6A93316F6FA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0385-2424-429C-94D1-7805FF2B12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AE2E-D701-41B3-A451-5A5DB6377E8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EB87-1E50-4C4A-8BFF-5C99AF4C7A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4970-178C-4B12-AE9A-946372DFE3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76E6-980B-4E27-8C3B-936240396A9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C606-5B86-468F-8E8B-8534BC23BB2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395B-85E6-460F-945C-D64501A7484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F8F6-DD2A-45B3-85D5-DB9A9E07E1F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83D-CCB6-41A7-976F-E456D87B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EF85-854D-45C3-AA09-E972D42F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3EF-B873-4E58-BA7D-8C9BC5CC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687-0022-41F5-92A6-270E2979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2A58-A6B7-457C-AC5E-C2A33E50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D0B-CCDB-44F1-B0F3-53C3013F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967-9B52-48A2-80FC-F783870F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BC5B-7498-4493-A9F0-288702EC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DDC-A095-4EC0-9D12-801C8CC4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0EC-91F2-4795-9D57-28144E57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B7A-3DDD-4ADA-8E6D-94F97B00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A4E-2BA3-4B22-9E80-6304EE62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3D9B-D9BB-4522-A706-8A11CD9AE35C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afip.gov.ar/envio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00"/>
                </a:solidFill>
                <a:latin typeface="Arial"/>
              </a:rPr>
              <a:t>LEY 26476 Tareas a cumplir  para el goce de los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714240"/>
            <a:ext cx="9144000" cy="6143760"/>
          </a:xfrm>
          <a:prstGeom prst="rect">
            <a:avLst/>
          </a:prstGeom>
          <a:solidFill>
            <a:srgbClr val="e4f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Informar novedades en miSimpl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Presentar  F931 Originales o rectific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Hasta 11-2008: máximo 10 CU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Trabajadores con Remuneración rectificada 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C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Trabajadores con Inicio Rectificado 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MC 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Trabajadores regularizados nunca regist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MC 211/212/213  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c/exención 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Hasta 11-2008: más de 10 CU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MC 221/222/223 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c/obligaciones menos L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12-2008 ysigui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Arial"/>
              </a:rPr>
              <a:t>Puestos nuevos y regulariz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MC201/212/213 ó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211/212/213 o  221/222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Gestionar Certificaciones de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391280" cy="2895840"/>
          </a:xfrm>
          <a:prstGeom prst="rect">
            <a:avLst/>
          </a:prstGeom>
          <a:ln w="0">
            <a:noFill/>
          </a:ln>
        </p:spPr>
      </p:pic>
      <p:sp>
        <p:nvSpPr>
          <p:cNvPr id="101" name="Line 5"/>
          <p:cNvSpPr/>
          <p:nvPr/>
        </p:nvSpPr>
        <p:spPr>
          <a:xfrm flipV="1">
            <a:off x="3048120" y="3276720"/>
            <a:ext cx="23619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3124080" y="2666880"/>
            <a:ext cx="2286000" cy="152424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 flipV="1">
            <a:off x="3124080" y="3048120"/>
            <a:ext cx="2286000" cy="1109520"/>
          </a:xfrm>
          <a:prstGeom prst="line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1"/>
          <p:cNvSpPr/>
          <p:nvPr/>
        </p:nvSpPr>
        <p:spPr>
          <a:xfrm>
            <a:off x="0" y="5638680"/>
            <a:ext cx="4267080" cy="78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MODIFICAR DA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FECHA INGRESO/REMUNER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5410080" y="3429000"/>
            <a:ext cx="2743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7324560" cy="6221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1066680" y="163440"/>
            <a:ext cx="8077320" cy="6694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1"/>
          <p:cNvSpPr/>
          <p:nvPr/>
        </p:nvSpPr>
        <p:spPr>
          <a:xfrm rot="20614200">
            <a:off x="5252400" y="762480"/>
            <a:ext cx="358128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RECTIFICACION DE REMUNERACION  Ley  264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1"/>
          <p:cNvSpPr/>
          <p:nvPr/>
        </p:nvSpPr>
        <p:spPr>
          <a:xfrm rot="20921400">
            <a:off x="-3240" y="533880"/>
            <a:ext cx="36576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RECTIFICACION DE FECHA DE INGRESO  Ley  264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Line 1028"/>
          <p:cNvSpPr/>
          <p:nvPr/>
        </p:nvSpPr>
        <p:spPr>
          <a:xfrm flipV="1">
            <a:off x="4191120" y="4357440"/>
            <a:ext cx="4452840" cy="11286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1"/>
          <p:cNvSpPr/>
          <p:nvPr/>
        </p:nvSpPr>
        <p:spPr>
          <a:xfrm>
            <a:off x="3048120" y="5486400"/>
            <a:ext cx="235728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NULACION EN CASO DE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114" name="Line 6"/>
          <p:cNvSpPr/>
          <p:nvPr/>
        </p:nvSpPr>
        <p:spPr>
          <a:xfrm flipH="1" flipV="1">
            <a:off x="5181120" y="2437920"/>
            <a:ext cx="3581640" cy="403884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5181480" y="2438280"/>
            <a:ext cx="76320" cy="32004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50760" y="0"/>
            <a:ext cx="909324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Line 7"/>
          <p:cNvSpPr/>
          <p:nvPr/>
        </p:nvSpPr>
        <p:spPr>
          <a:xfrm flipH="1" flipV="1">
            <a:off x="5357880" y="2571480"/>
            <a:ext cx="3357360" cy="38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Line 8"/>
          <p:cNvSpPr/>
          <p:nvPr/>
        </p:nvSpPr>
        <p:spPr>
          <a:xfrm flipH="1" flipV="1">
            <a:off x="8358120" y="4857480"/>
            <a:ext cx="557280" cy="1771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214200" y="5357880"/>
            <a:ext cx="472464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OMPLETAR DATOS FAL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0" descr=""/>
          <p:cNvPicPr/>
          <p:nvPr/>
        </p:nvPicPr>
        <p:blipFill>
          <a:blip r:embed="rId1"/>
          <a:stretch/>
        </p:blipFill>
        <p:spPr>
          <a:xfrm>
            <a:off x="861840" y="414360"/>
            <a:ext cx="7420320" cy="6029280"/>
          </a:xfrm>
          <a:prstGeom prst="rect">
            <a:avLst/>
          </a:prstGeom>
          <a:ln w="0">
            <a:noFill/>
          </a:ln>
        </p:spPr>
      </p:pic>
      <p:sp>
        <p:nvSpPr>
          <p:cNvPr id="122" name="Line 11"/>
          <p:cNvSpPr/>
          <p:nvPr/>
        </p:nvSpPr>
        <p:spPr>
          <a:xfrm flipH="1" flipV="1">
            <a:off x="4343040" y="4038480"/>
            <a:ext cx="4800600" cy="281952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6477120" y="3733920"/>
            <a:ext cx="2666880" cy="312408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3657600" y="4343040"/>
            <a:ext cx="5486400" cy="251460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 flipV="1">
            <a:off x="4648320" y="4876560"/>
            <a:ext cx="4495680" cy="198108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 flipV="1">
            <a:off x="3428640" y="4648320"/>
            <a:ext cx="5715000" cy="220968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6" descr=""/>
          <p:cNvPicPr/>
          <p:nvPr/>
        </p:nvPicPr>
        <p:blipFill>
          <a:blip r:embed="rId2"/>
          <a:stretch/>
        </p:blipFill>
        <p:spPr>
          <a:xfrm>
            <a:off x="0" y="304920"/>
            <a:ext cx="5133960" cy="2200320"/>
          </a:xfrm>
          <a:prstGeom prst="rect">
            <a:avLst/>
          </a:prstGeom>
          <a:ln w="0">
            <a:noFill/>
          </a:ln>
        </p:spPr>
      </p:pic>
      <p:sp>
        <p:nvSpPr>
          <p:cNvPr id="128" name="Line 17"/>
          <p:cNvSpPr/>
          <p:nvPr/>
        </p:nvSpPr>
        <p:spPr>
          <a:xfrm flipH="1" flipV="1">
            <a:off x="228240" y="1219320"/>
            <a:ext cx="1219320" cy="358128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81640"/>
          </a:xfrm>
          <a:prstGeom prst="rect">
            <a:avLst/>
          </a:prstGeom>
          <a:ln w="0">
            <a:noFill/>
          </a:ln>
        </p:spPr>
      </p:pic>
      <p:sp>
        <p:nvSpPr>
          <p:cNvPr id="130" name="Line 6"/>
          <p:cNvSpPr/>
          <p:nvPr/>
        </p:nvSpPr>
        <p:spPr>
          <a:xfrm flipV="1">
            <a:off x="609480" y="3580920"/>
            <a:ext cx="914400" cy="29718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 flipV="1">
            <a:off x="609480" y="1904760"/>
            <a:ext cx="4724640" cy="46479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1"/>
          <p:cNvSpPr/>
          <p:nvPr/>
        </p:nvSpPr>
        <p:spPr>
          <a:xfrm>
            <a:off x="2514600" y="5857920"/>
            <a:ext cx="606744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ONSULTA Y ACTUALIZACION EN LI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 flipH="1" flipV="1">
            <a:off x="563040" y="4071600"/>
            <a:ext cx="3294360" cy="25002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1"/>
          <p:cNvSpPr/>
          <p:nvPr/>
        </p:nvSpPr>
        <p:spPr>
          <a:xfrm>
            <a:off x="3929040" y="6215040"/>
            <a:ext cx="472428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ONSULTA  A ANSES DE VINC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Line 1034"/>
          <p:cNvSpPr/>
          <p:nvPr/>
        </p:nvSpPr>
        <p:spPr>
          <a:xfrm flipV="1">
            <a:off x="928800" y="6214680"/>
            <a:ext cx="1000080" cy="42876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1"/>
          <p:cNvSpPr/>
          <p:nvPr/>
        </p:nvSpPr>
        <p:spPr>
          <a:xfrm>
            <a:off x="3929040" y="5429160"/>
            <a:ext cx="4724280" cy="368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VINCULOS EXISTENTES EN A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34"/>
          <p:cNvSpPr/>
          <p:nvPr/>
        </p:nvSpPr>
        <p:spPr>
          <a:xfrm flipV="1">
            <a:off x="1000080" y="6286680"/>
            <a:ext cx="3143160" cy="3571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34"/>
          <p:cNvSpPr/>
          <p:nvPr/>
        </p:nvSpPr>
        <p:spPr>
          <a:xfrm flipV="1">
            <a:off x="1000080" y="6286680"/>
            <a:ext cx="5214960" cy="3571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2286000" y="152280"/>
            <a:ext cx="243828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99"/>
                </a:solidFill>
                <a:latin typeface="Arial"/>
              </a:rPr>
              <a:t>CARTEL AV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32"/>
          <p:cNvSpPr/>
          <p:nvPr/>
        </p:nvSpPr>
        <p:spPr>
          <a:xfrm>
            <a:off x="2286000" y="533520"/>
            <a:ext cx="2666880" cy="3429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357120" y="214200"/>
            <a:ext cx="8501040" cy="1000080"/>
          </a:xfrm>
          <a:prstGeom prst="rect">
            <a:avLst/>
          </a:prstGeom>
          <a:solidFill>
            <a:srgbClr val="cfe9eb"/>
          </a:solidFill>
          <a:ln w="381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LEY 2647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miSimplificación - F 931- Certificacion de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333399"/>
                </a:solidFill>
                <a:uFillTx/>
                <a:latin typeface="Arial"/>
              </a:rPr>
              <a:t>Informar novedades en miSimplificación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800" spc="-1" strike="noStrike" u="sng">
                <a:solidFill>
                  <a:srgbClr val="333399"/>
                </a:solidFill>
                <a:uFillTx/>
                <a:latin typeface="Arial"/>
              </a:rPr>
              <a:t>Presentar  F931 Originales o rectific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Trabajadores con Remuneración rect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Trabajadores con Fecha de Ingreso ampli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Trabajadores no regist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con exencion de oblig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con cálculo/obligaciones menos L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800" spc="-1" strike="noStrike" u="sng">
                <a:solidFill>
                  <a:srgbClr val="333399"/>
                </a:solidFill>
                <a:uFillTx/>
                <a:latin typeface="Arial"/>
              </a:rPr>
              <a:t>Gestionar las Certificaciones de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929280" y="1571760"/>
            <a:ext cx="167652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6929280" cy="2500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1000080" y="1000080"/>
            <a:ext cx="8143920" cy="5857920"/>
          </a:xfrm>
          <a:prstGeom prst="rect">
            <a:avLst/>
          </a:prstGeom>
          <a:ln w="0">
            <a:noFill/>
          </a:ln>
        </p:spPr>
      </p:pic>
      <p:cxnSp>
        <p:nvCxnSpPr>
          <p:cNvPr id="146" name="7 Conector recto de flecha"/>
          <p:cNvCxnSpPr/>
          <p:nvPr/>
        </p:nvCxnSpPr>
        <p:spPr>
          <a:xfrm flipV="1">
            <a:off x="-1080" y="1999800"/>
            <a:ext cx="2072520" cy="4858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13 Conector recto de flecha"/>
          <p:cNvCxnSpPr/>
          <p:nvPr/>
        </p:nvCxnSpPr>
        <p:spPr>
          <a:xfrm flipV="1">
            <a:off x="-360" y="1856520"/>
            <a:ext cx="7001640" cy="5001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1"/>
          <p:cNvSpPr/>
          <p:nvPr/>
        </p:nvSpPr>
        <p:spPr>
          <a:xfrm>
            <a:off x="1981080" y="0"/>
            <a:ext cx="472464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TRABAJADOR EXISTENTE EN DDJ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4 Conector recto de flecha"/>
          <p:cNvCxnSpPr/>
          <p:nvPr/>
        </p:nvCxnSpPr>
        <p:spPr>
          <a:xfrm flipV="1">
            <a:off x="428760" y="3428640"/>
            <a:ext cx="3286800" cy="30009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Line 3"/>
          <p:cNvSpPr/>
          <p:nvPr/>
        </p:nvSpPr>
        <p:spPr>
          <a:xfrm flipV="1">
            <a:off x="5715000" y="4000320"/>
            <a:ext cx="571680" cy="1285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1"/>
          <p:cNvSpPr/>
          <p:nvPr/>
        </p:nvSpPr>
        <p:spPr>
          <a:xfrm>
            <a:off x="5572080" y="5286240"/>
            <a:ext cx="3571920" cy="1167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CTIFICACION DE REMUNER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FORM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143000" y="0"/>
            <a:ext cx="64771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CUADRO DE DATOS COMPLEMEN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0" y="5786280"/>
            <a:ext cx="407196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muneraciones declaradas sin mod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7 Conector recto de flecha"/>
          <p:cNvCxnSpPr/>
          <p:nvPr/>
        </p:nvCxnSpPr>
        <p:spPr>
          <a:xfrm flipV="1">
            <a:off x="0" y="3285360"/>
            <a:ext cx="3215520" cy="242964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57" name="9 Conector recto de flecha"/>
          <p:cNvCxnSpPr/>
          <p:nvPr/>
        </p:nvCxnSpPr>
        <p:spPr>
          <a:xfrm flipV="1">
            <a:off x="0" y="4571280"/>
            <a:ext cx="3286800" cy="114372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58" name="14 Conector recto de flecha"/>
          <p:cNvCxnSpPr/>
          <p:nvPr/>
        </p:nvCxnSpPr>
        <p:spPr>
          <a:xfrm flipV="1">
            <a:off x="0" y="3785760"/>
            <a:ext cx="3215520" cy="192960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59" name="16 Conector recto de flecha"/>
          <p:cNvCxnSpPr/>
          <p:nvPr/>
        </p:nvCxnSpPr>
        <p:spPr>
          <a:xfrm flipV="1">
            <a:off x="0" y="4357440"/>
            <a:ext cx="3215520" cy="128664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1"/>
          <p:cNvSpPr/>
          <p:nvPr/>
        </p:nvSpPr>
        <p:spPr>
          <a:xfrm>
            <a:off x="228600" y="5715000"/>
            <a:ext cx="59436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CTIFICACION DE REMUNERACION  NO 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 flipV="1">
            <a:off x="2590920" y="3429000"/>
            <a:ext cx="398124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2643120" y="0"/>
            <a:ext cx="5662800" cy="3643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2571840" y="3124080"/>
            <a:ext cx="6086520" cy="3733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1"/>
          <p:cNvSpPr/>
          <p:nvPr/>
        </p:nvSpPr>
        <p:spPr>
          <a:xfrm>
            <a:off x="0" y="5638680"/>
            <a:ext cx="472428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ALCULO DE OBLIGACIONES  SOLO SOBRE LO DECLA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 flipV="1">
            <a:off x="914400" y="-360"/>
            <a:ext cx="1943280" cy="5791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 flipV="1">
            <a:off x="914400" y="3500280"/>
            <a:ext cx="1728720" cy="221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sp>
        <p:nvSpPr>
          <p:cNvPr id="170" name="Text Box 51"/>
          <p:cNvSpPr/>
          <p:nvPr/>
        </p:nvSpPr>
        <p:spPr>
          <a:xfrm>
            <a:off x="0" y="285840"/>
            <a:ext cx="5214960" cy="642600"/>
          </a:xfrm>
          <a:prstGeom prst="rect">
            <a:avLst/>
          </a:prstGeom>
          <a:solidFill>
            <a:srgbClr val="e4f3f4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GULARIZACION DE EMPLEADO NO REGISTRADO : HASTA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 flipV="1">
            <a:off x="609480" y="3657240"/>
            <a:ext cx="213372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 flipV="1">
            <a:off x="609480" y="4357800"/>
            <a:ext cx="2176560" cy="18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 flipV="1">
            <a:off x="533520" y="4500360"/>
            <a:ext cx="2324160" cy="1671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0" y="6072120"/>
            <a:ext cx="3048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c3300"/>
                </a:solidFill>
                <a:latin typeface="Arial"/>
              </a:rPr>
              <a:t>211-212-213  SIN C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3295800" y="3571920"/>
            <a:ext cx="5848200" cy="28954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1"/>
          <p:cNvSpPr/>
          <p:nvPr/>
        </p:nvSpPr>
        <p:spPr>
          <a:xfrm>
            <a:off x="0" y="3071880"/>
            <a:ext cx="3657600" cy="368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GULARIZACION DE SUEL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 flipV="1">
            <a:off x="857160" y="2057400"/>
            <a:ext cx="3562560" cy="1014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285840"/>
            <a:ext cx="5000760" cy="428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CUADRO DE DATOS COMPLEMEN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1"/>
          <p:cNvSpPr/>
          <p:nvPr/>
        </p:nvSpPr>
        <p:spPr>
          <a:xfrm>
            <a:off x="285840" y="5643720"/>
            <a:ext cx="58863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GULARIZACION DE REMUNERACION 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 flipV="1">
            <a:off x="1071720" y="4571640"/>
            <a:ext cx="650052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4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4343400" y="3733920"/>
            <a:ext cx="5162400" cy="3124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1"/>
          <p:cNvSpPr/>
          <p:nvPr/>
        </p:nvSpPr>
        <p:spPr>
          <a:xfrm>
            <a:off x="304920" y="5029200"/>
            <a:ext cx="3657600" cy="12027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 REALIZA CALCUL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PORTES Y CON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BRE REGULARIZ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 flipH="1" flipV="1">
            <a:off x="356760" y="428400"/>
            <a:ext cx="785880" cy="460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 flipV="1">
            <a:off x="1143000" y="3962160"/>
            <a:ext cx="335268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1"/>
          <p:cNvSpPr/>
          <p:nvPr/>
        </p:nvSpPr>
        <p:spPr>
          <a:xfrm>
            <a:off x="0" y="785880"/>
            <a:ext cx="5143680" cy="642600"/>
          </a:xfrm>
          <a:prstGeom prst="rect">
            <a:avLst/>
          </a:prstGeom>
          <a:solidFill>
            <a:srgbClr val="e4f3f4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GULARIZACION DE EMPLEADO NO REGISTRADO  MAS DE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 flipV="1">
            <a:off x="609480" y="3657240"/>
            <a:ext cx="213372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 flipV="1">
            <a:off x="571680" y="4857840"/>
            <a:ext cx="2143080" cy="1285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6"/>
          <p:cNvSpPr/>
          <p:nvPr/>
        </p:nvSpPr>
        <p:spPr>
          <a:xfrm flipV="1">
            <a:off x="500040" y="5000400"/>
            <a:ext cx="2286000" cy="11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0" y="6215040"/>
            <a:ext cx="4800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c3300"/>
                </a:solidFill>
                <a:latin typeface="Arial"/>
              </a:rPr>
              <a:t>221-222-223  CON CARGO MENOS L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2"/>
          <a:stretch/>
        </p:blipFill>
        <p:spPr>
          <a:xfrm>
            <a:off x="2786040" y="3424320"/>
            <a:ext cx="42861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092"/>
          <p:cNvSpPr/>
          <p:nvPr/>
        </p:nvSpPr>
        <p:spPr>
          <a:xfrm>
            <a:off x="6918480" y="417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0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Line 9"/>
          <p:cNvSpPr/>
          <p:nvPr/>
        </p:nvSpPr>
        <p:spPr>
          <a:xfrm flipV="1">
            <a:off x="357120" y="999720"/>
            <a:ext cx="7572600" cy="40006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 flipV="1">
            <a:off x="285840" y="1071720"/>
            <a:ext cx="6072120" cy="40003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357120" y="999720"/>
            <a:ext cx="4143600" cy="40719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 flipV="1">
            <a:off x="285840" y="928800"/>
            <a:ext cx="2643120" cy="4214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214880" y="214200"/>
            <a:ext cx="106200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99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1"/>
          <p:cNvSpPr/>
          <p:nvPr/>
        </p:nvSpPr>
        <p:spPr>
          <a:xfrm>
            <a:off x="285840" y="5286240"/>
            <a:ext cx="3657600" cy="368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GULARIZACION DE SUEL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285840"/>
            <a:ext cx="5000760" cy="50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CUADRO DE DATOS COMPLEMEN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7 Conector recto de flecha"/>
          <p:cNvCxnSpPr/>
          <p:nvPr/>
        </p:nvCxnSpPr>
        <p:spPr>
          <a:xfrm flipV="1">
            <a:off x="857160" y="3428280"/>
            <a:ext cx="2501280" cy="1857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8" name="9 Conector recto de flecha"/>
          <p:cNvCxnSpPr/>
          <p:nvPr/>
        </p:nvCxnSpPr>
        <p:spPr>
          <a:xfrm flipV="1">
            <a:off x="785880" y="3785760"/>
            <a:ext cx="2572560" cy="1572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9" name="11 Conector recto de flecha"/>
          <p:cNvCxnSpPr/>
          <p:nvPr/>
        </p:nvCxnSpPr>
        <p:spPr>
          <a:xfrm flipV="1">
            <a:off x="928800" y="4214520"/>
            <a:ext cx="2286720" cy="1072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1"/>
          <p:cNvSpPr/>
          <p:nvPr/>
        </p:nvSpPr>
        <p:spPr>
          <a:xfrm>
            <a:off x="357120" y="5643720"/>
            <a:ext cx="58150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GULARIZACION DE REMUNERACION 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5 Conector recto de flecha"/>
          <p:cNvCxnSpPr/>
          <p:nvPr/>
        </p:nvCxnSpPr>
        <p:spPr>
          <a:xfrm flipV="1">
            <a:off x="2357280" y="2714400"/>
            <a:ext cx="3858480" cy="2929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1"/>
          <p:cNvSpPr/>
          <p:nvPr/>
        </p:nvSpPr>
        <p:spPr>
          <a:xfrm>
            <a:off x="0" y="5029200"/>
            <a:ext cx="365760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ALIZA CALCULO DE APORTES Y CON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 flipV="1">
            <a:off x="914400" y="990720"/>
            <a:ext cx="1981080" cy="4038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2"/>
          <a:stretch/>
        </p:blipFill>
        <p:spPr>
          <a:xfrm>
            <a:off x="3990960" y="3733920"/>
            <a:ext cx="5153040" cy="3124080"/>
          </a:xfrm>
          <a:prstGeom prst="rect">
            <a:avLst/>
          </a:prstGeom>
          <a:ln w="0">
            <a:noFill/>
          </a:ln>
        </p:spPr>
      </p:pic>
      <p:sp>
        <p:nvSpPr>
          <p:cNvPr id="207" name="Line 7"/>
          <p:cNvSpPr/>
          <p:nvPr/>
        </p:nvSpPr>
        <p:spPr>
          <a:xfrm flipV="1">
            <a:off x="838080" y="3885840"/>
            <a:ext cx="335304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533520" y="380880"/>
            <a:ext cx="761976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LEY 2647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SEGÚN EL TIPO DE CONTRIBUY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solidFill>
            <a:srgbClr val="e4f3f4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333399"/>
                </a:solidFill>
                <a:uFillTx/>
                <a:latin typeface="Arial"/>
              </a:rPr>
              <a:t>Informar novedades en miSimplificación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: excluyente para dar curso a la Certificación de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333399"/>
                </a:solidFill>
                <a:uFillTx/>
                <a:latin typeface="Arial"/>
              </a:rPr>
              <a:t>suDeclaración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: desde 2-2007 originales o rectificativas automáticam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Hasta   5 empleados obligatoriam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Hasta 10 empleados voluntariamente       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333399"/>
                </a:solidFill>
                <a:uFillTx/>
                <a:latin typeface="Arial"/>
              </a:rPr>
              <a:t>Resto de empleadores y periodos: 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    SICOSS  V 32 de escri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F931 originales o rectificativas necesarias  envío 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A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fip.gov.ar/envio</a:t>
            </a: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 de DD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7 Flecha en U"/>
          <p:cNvSpPr/>
          <p:nvPr/>
        </p:nvSpPr>
        <p:spPr>
          <a:xfrm>
            <a:off x="6143760" y="3929040"/>
            <a:ext cx="928440" cy="1357200"/>
          </a:xfrm>
          <a:prstGeom prst="pie">
            <a:avLst/>
          </a:prstGeom>
          <a:solidFill>
            <a:srgbClr val="cc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3920" y="285480"/>
            <a:ext cx="8543880" cy="5000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70c0"/>
            </a:solidFill>
            <a:prstDash val="sys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iCOSS más  novedades de la VERSION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solidFill>
            <a:srgbClr val="e4f3f4"/>
          </a:solidFill>
          <a:ln w="0">
            <a:noFill/>
          </a:ln>
        </p:spPr>
        <p:txBody>
          <a:bodyPr anchor="t">
            <a:normAutofit fontScale="93000"/>
          </a:bodyPr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DC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Conceptos No Remune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DC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: Conceptos remunerativos </a:t>
            </a:r>
            <a:r>
              <a:rPr b="1" lang="es-ES" sz="2800" spc="-1" strike="noStrike">
                <a:solidFill>
                  <a:srgbClr val="0070c0"/>
                </a:solidFill>
                <a:latin typeface="Arial"/>
              </a:rPr>
              <a:t>SIN T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emuneración Total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Conceptos Rem y No 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emuneración 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Conceptos Rem/CDC </a:t>
            </a:r>
            <a:r>
              <a:rPr b="1" lang="es-ES" sz="2800" spc="-1" strike="noStrike">
                <a:solidFill>
                  <a:srgbClr val="0070c0"/>
                </a:solidFill>
                <a:latin typeface="Arial"/>
              </a:rPr>
              <a:t>SIN T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emuneración 3 y 8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= Remuneración 2 </a:t>
            </a:r>
            <a:r>
              <a:rPr b="1" lang="es-ES" sz="2800" spc="-1" strike="noStrike">
                <a:solidFill>
                  <a:srgbClr val="0070c0"/>
                </a:solidFill>
                <a:latin typeface="Arial"/>
              </a:rPr>
              <a:t>SIN T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muneración 2 Contrib SIPA y PAM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muneración 3 Contrib AAFF FNE RENAT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muneración 8 Contrib Obr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muneración 1 SIP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Topeada s/peri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muneración 4 Obra Social     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Topeada s/peri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muneración 5 LRT                  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Topeada s/peri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214" name="7 Conector recto de flecha"/>
          <p:cNvCxnSpPr/>
          <p:nvPr/>
        </p:nvCxnSpPr>
        <p:spPr>
          <a:xfrm flipV="1">
            <a:off x="4357440" y="4285440"/>
            <a:ext cx="2215080" cy="178668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</p:cxnSp>
      <p:cxnSp>
        <p:nvCxnSpPr>
          <p:cNvPr id="215" name="9 Conector recto de flecha"/>
          <p:cNvCxnSpPr/>
          <p:nvPr/>
        </p:nvCxnSpPr>
        <p:spPr>
          <a:xfrm flipV="1">
            <a:off x="713880" y="3499920"/>
            <a:ext cx="2715480" cy="150120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</p:cxnSp>
      <p:cxnSp>
        <p:nvCxnSpPr>
          <p:cNvPr id="216" name="11 Conector recto de flecha"/>
          <p:cNvCxnSpPr/>
          <p:nvPr/>
        </p:nvCxnSpPr>
        <p:spPr>
          <a:xfrm flipV="1">
            <a:off x="713880" y="4285440"/>
            <a:ext cx="2644200" cy="71532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</p:cxnSp>
      <p:sp>
        <p:nvSpPr>
          <p:cNvPr id="217" name="Text Box 51"/>
          <p:cNvSpPr/>
          <p:nvPr/>
        </p:nvSpPr>
        <p:spPr>
          <a:xfrm>
            <a:off x="214200" y="4929120"/>
            <a:ext cx="365760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CEPTOS REMUNERATORIOS SIN T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1"/>
          <p:cNvSpPr/>
          <p:nvPr/>
        </p:nvSpPr>
        <p:spPr>
          <a:xfrm>
            <a:off x="785880" y="5929200"/>
            <a:ext cx="365760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ONCEPTOS NO REMUNERA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0" y="857160"/>
            <a:ext cx="5000760" cy="428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CUADRO DE DATOS COMPLEMEN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1"/>
          <p:cNvSpPr/>
          <p:nvPr/>
        </p:nvSpPr>
        <p:spPr>
          <a:xfrm>
            <a:off x="428760" y="0"/>
            <a:ext cx="421452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REMUNERACION TOTAL :CONCEPTOS REMUNERATORIOS MAS NO REMUNERA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7 Conector recto de flecha"/>
          <p:cNvCxnSpPr/>
          <p:nvPr/>
        </p:nvCxnSpPr>
        <p:spPr>
          <a:xfrm>
            <a:off x="928800" y="928800"/>
            <a:ext cx="1929600" cy="71496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</p:cxnSp>
      <p:sp>
        <p:nvSpPr>
          <p:cNvPr id="223" name="Text Box 51"/>
          <p:cNvSpPr/>
          <p:nvPr/>
        </p:nvSpPr>
        <p:spPr>
          <a:xfrm>
            <a:off x="428760" y="5072040"/>
            <a:ext cx="3657600" cy="9169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CONCEPTOS REMUNERATORIOS SIN TOPE Rem 2-Rem 3 y Rem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11 Conector recto de flecha"/>
          <p:cNvCxnSpPr/>
          <p:nvPr/>
        </p:nvCxnSpPr>
        <p:spPr>
          <a:xfrm flipV="1">
            <a:off x="2285640" y="2714400"/>
            <a:ext cx="4143600" cy="228672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</p:cxnSp>
      <p:cxnSp>
        <p:nvCxnSpPr>
          <p:cNvPr id="225" name="16 Conector recto de flecha"/>
          <p:cNvCxnSpPr/>
          <p:nvPr/>
        </p:nvCxnSpPr>
        <p:spPr>
          <a:xfrm flipV="1">
            <a:off x="2356920" y="4142880"/>
            <a:ext cx="4072680" cy="85824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</p:cxnSp>
      <p:cxnSp>
        <p:nvCxnSpPr>
          <p:cNvPr id="226" name="17 Conector recto de flecha"/>
          <p:cNvCxnSpPr/>
          <p:nvPr/>
        </p:nvCxnSpPr>
        <p:spPr>
          <a:xfrm flipV="1">
            <a:off x="2286000" y="3214080"/>
            <a:ext cx="4286880" cy="178668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</p:cxnSp>
      <p:sp>
        <p:nvSpPr>
          <p:cNvPr id="227" name="Text Box 51"/>
          <p:cNvSpPr/>
          <p:nvPr/>
        </p:nvSpPr>
        <p:spPr>
          <a:xfrm>
            <a:off x="5143680" y="5357880"/>
            <a:ext cx="3657600" cy="916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Arial"/>
              </a:rPr>
              <a:t>CONCEPTOS REMUNERATORIOS CON TOPE Rem 1-Rem 4 y Rem 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27 Conector recto de flecha"/>
          <p:cNvCxnSpPr/>
          <p:nvPr/>
        </p:nvCxnSpPr>
        <p:spPr>
          <a:xfrm flipH="1" flipV="1">
            <a:off x="7428960" y="3999960"/>
            <a:ext cx="1286280" cy="12862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29" name="28 Conector recto de flecha"/>
          <p:cNvCxnSpPr/>
          <p:nvPr/>
        </p:nvCxnSpPr>
        <p:spPr>
          <a:xfrm flipH="1" flipV="1">
            <a:off x="7286040" y="3499560"/>
            <a:ext cx="1500840" cy="17866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30" name="29 Conector recto de flecha"/>
          <p:cNvCxnSpPr/>
          <p:nvPr/>
        </p:nvCxnSpPr>
        <p:spPr>
          <a:xfrm flipH="1" flipV="1">
            <a:off x="7500600" y="2428560"/>
            <a:ext cx="1286640" cy="29296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1"/>
          <p:cNvSpPr/>
          <p:nvPr/>
        </p:nvSpPr>
        <p:spPr>
          <a:xfrm>
            <a:off x="428760" y="0"/>
            <a:ext cx="421452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REMUNERACION TOTAL MODIFICACION ES EN EL 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7 Conector recto de flecha"/>
          <p:cNvCxnSpPr/>
          <p:nvPr/>
        </p:nvCxnSpPr>
        <p:spPr>
          <a:xfrm>
            <a:off x="928800" y="928800"/>
            <a:ext cx="1929600" cy="71496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</p:cxnSp>
      <p:sp>
        <p:nvSpPr>
          <p:cNvPr id="234" name="Text Box 51"/>
          <p:cNvSpPr/>
          <p:nvPr/>
        </p:nvSpPr>
        <p:spPr>
          <a:xfrm>
            <a:off x="428760" y="5072040"/>
            <a:ext cx="3657600" cy="1334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REMUNERA CION  2 </a:t>
            </a: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MODIFICACION ES EN EL 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REMUNEACION 3 Y 8 EDI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11 Conector recto de flecha"/>
          <p:cNvCxnSpPr/>
          <p:nvPr/>
        </p:nvCxnSpPr>
        <p:spPr>
          <a:xfrm flipV="1">
            <a:off x="2285640" y="2714400"/>
            <a:ext cx="4143600" cy="228672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</p:cxnSp>
      <p:cxnSp>
        <p:nvCxnSpPr>
          <p:cNvPr id="236" name="16 Conector recto de flecha"/>
          <p:cNvCxnSpPr/>
          <p:nvPr/>
        </p:nvCxnSpPr>
        <p:spPr>
          <a:xfrm flipV="1">
            <a:off x="2356920" y="4142880"/>
            <a:ext cx="4072680" cy="85824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</p:cxnSp>
      <p:cxnSp>
        <p:nvCxnSpPr>
          <p:cNvPr id="237" name="17 Conector recto de flecha"/>
          <p:cNvCxnSpPr/>
          <p:nvPr/>
        </p:nvCxnSpPr>
        <p:spPr>
          <a:xfrm flipV="1">
            <a:off x="2286000" y="3214080"/>
            <a:ext cx="4286880" cy="178668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</p:cxnSp>
      <p:sp>
        <p:nvSpPr>
          <p:cNvPr id="238" name="Text Box 51"/>
          <p:cNvSpPr/>
          <p:nvPr/>
        </p:nvSpPr>
        <p:spPr>
          <a:xfrm>
            <a:off x="5143680" y="5357880"/>
            <a:ext cx="365760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Arial"/>
              </a:rPr>
              <a:t>REMUNERACIONES 1, 4 Y 5 EDI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27 Conector recto de flecha"/>
          <p:cNvCxnSpPr/>
          <p:nvPr/>
        </p:nvCxnSpPr>
        <p:spPr>
          <a:xfrm flipH="1" flipV="1">
            <a:off x="7428960" y="3999960"/>
            <a:ext cx="1286280" cy="12862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40" name="28 Conector recto de flecha"/>
          <p:cNvCxnSpPr/>
          <p:nvPr/>
        </p:nvCxnSpPr>
        <p:spPr>
          <a:xfrm flipH="1" flipV="1">
            <a:off x="7286040" y="3499560"/>
            <a:ext cx="1500840" cy="17866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41" name="29 Conector recto de flecha"/>
          <p:cNvCxnSpPr/>
          <p:nvPr/>
        </p:nvCxnSpPr>
        <p:spPr>
          <a:xfrm flipH="1" flipV="1">
            <a:off x="7500600" y="2428560"/>
            <a:ext cx="1286640" cy="29296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357120" y="214200"/>
            <a:ext cx="8501040" cy="1000080"/>
          </a:xfrm>
          <a:prstGeom prst="rect">
            <a:avLst/>
          </a:prstGeom>
          <a:solidFill>
            <a:srgbClr val="cfe9eb"/>
          </a:solidFill>
          <a:ln w="381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LEY 2647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miSimplificación - F 931- Certificacion de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333399"/>
                </a:solidFill>
                <a:uFillTx/>
                <a:latin typeface="Arial"/>
              </a:rPr>
              <a:t>Informar novedades en miSimplificación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800" spc="-1" strike="noStrike" u="sng">
                <a:solidFill>
                  <a:srgbClr val="333399"/>
                </a:solidFill>
                <a:uFillTx/>
                <a:latin typeface="Arial"/>
              </a:rPr>
              <a:t>Presentar  F931 Originales o rectific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Trabajadores con Remuneración rect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Trabajadores con Fecha de Ingreso ampli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Trabajadores no regist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con exencion de oblig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con cálculo/obligaciones menos L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800" spc="-1" strike="noStrike" u="sng">
                <a:solidFill>
                  <a:srgbClr val="333399"/>
                </a:solidFill>
                <a:uFillTx/>
                <a:latin typeface="Arial"/>
              </a:rPr>
              <a:t>Gestionar las Certificaciones de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6929280" y="1571760"/>
            <a:ext cx="1676520" cy="687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7467480" y="4929120"/>
            <a:ext cx="167652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 flipV="1">
            <a:off x="5181120" y="5715000"/>
            <a:ext cx="3581640" cy="3808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1"/>
          <p:cNvSpPr/>
          <p:nvPr/>
        </p:nvSpPr>
        <p:spPr>
          <a:xfrm>
            <a:off x="1828800" y="152280"/>
            <a:ext cx="571500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LTA DE RELACION LABORAL ON LINE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 flipH="1" flipV="1">
            <a:off x="2666880" y="4343400"/>
            <a:ext cx="6096240" cy="1752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8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65" name="Line 3"/>
          <p:cNvSpPr/>
          <p:nvPr/>
        </p:nvSpPr>
        <p:spPr>
          <a:xfrm flipH="1" flipV="1">
            <a:off x="762120" y="4800240"/>
            <a:ext cx="457200" cy="20574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0" y="457200"/>
            <a:ext cx="5705640" cy="160020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 flipH="1" flipV="1">
            <a:off x="1066680" y="2057040"/>
            <a:ext cx="152640" cy="48006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H="1" flipV="1">
            <a:off x="1447920" y="4952880"/>
            <a:ext cx="30456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3"/>
          <a:stretch/>
        </p:blipFill>
        <p:spPr>
          <a:xfrm>
            <a:off x="4038480" y="4114800"/>
            <a:ext cx="5105520" cy="1523880"/>
          </a:xfrm>
          <a:prstGeom prst="rect">
            <a:avLst/>
          </a:prstGeom>
          <a:ln w="0">
            <a:noFill/>
          </a:ln>
        </p:spPr>
      </p:pic>
      <p:sp>
        <p:nvSpPr>
          <p:cNvPr id="70" name="Line 11"/>
          <p:cNvSpPr/>
          <p:nvPr/>
        </p:nvSpPr>
        <p:spPr>
          <a:xfrm flipH="1" flipV="1">
            <a:off x="2819160" y="4952520"/>
            <a:ext cx="228600" cy="16765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V="1">
            <a:off x="3048120" y="5257800"/>
            <a:ext cx="121896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 flipV="1">
            <a:off x="3048120" y="4800600"/>
            <a:ext cx="1218960" cy="18288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"/>
          <p:cNvPicPr/>
          <p:nvPr/>
        </p:nvPicPr>
        <p:blipFill>
          <a:blip r:embed="rId4"/>
          <a:stretch/>
        </p:blipFill>
        <p:spPr>
          <a:xfrm>
            <a:off x="3048120" y="609480"/>
            <a:ext cx="5486400" cy="2743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1"/>
          <p:cNvSpPr/>
          <p:nvPr/>
        </p:nvSpPr>
        <p:spPr>
          <a:xfrm>
            <a:off x="152280" y="0"/>
            <a:ext cx="600084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DATOS OS-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CONTRATO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- LUGAR  DE DESEMP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V="1">
            <a:off x="1752480" y="2361960"/>
            <a:ext cx="1447920" cy="4343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 flipV="1">
            <a:off x="1752480" y="2590920"/>
            <a:ext cx="1447920" cy="4038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V="1">
            <a:off x="1752480" y="3048120"/>
            <a:ext cx="1524240" cy="3657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 flipV="1">
            <a:off x="1752480" y="3429000"/>
            <a:ext cx="1600200" cy="32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324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2"/>
          <a:stretch/>
        </p:blipFill>
        <p:spPr>
          <a:xfrm>
            <a:off x="3933720" y="0"/>
            <a:ext cx="5210280" cy="244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62" descr=""/>
          <p:cNvPicPr/>
          <p:nvPr/>
        </p:nvPicPr>
        <p:blipFill>
          <a:blip r:embed="rId3"/>
          <a:stretch/>
        </p:blipFill>
        <p:spPr>
          <a:xfrm>
            <a:off x="5029200" y="2057400"/>
            <a:ext cx="4114800" cy="1905120"/>
          </a:xfrm>
          <a:prstGeom prst="rect">
            <a:avLst/>
          </a:prstGeom>
          <a:ln w="0">
            <a:noFill/>
          </a:ln>
        </p:spPr>
      </p:pic>
      <p:sp>
        <p:nvSpPr>
          <p:cNvPr id="82" name="Line 2063"/>
          <p:cNvSpPr/>
          <p:nvPr/>
        </p:nvSpPr>
        <p:spPr>
          <a:xfrm flipV="1">
            <a:off x="5410080" y="2971440"/>
            <a:ext cx="1219320" cy="21337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061"/>
          <p:cNvSpPr/>
          <p:nvPr/>
        </p:nvSpPr>
        <p:spPr>
          <a:xfrm flipV="1">
            <a:off x="3581280" y="2437920"/>
            <a:ext cx="1067040" cy="2590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4495680" y="6172200"/>
            <a:ext cx="441972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STO - FORMA DE PAGO -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1"/>
          <p:cNvSpPr/>
          <p:nvPr/>
        </p:nvSpPr>
        <p:spPr>
          <a:xfrm>
            <a:off x="609480" y="6095880"/>
            <a:ext cx="342900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XCEDEN LOS 10 CU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1"/>
          <p:cNvSpPr/>
          <p:nvPr/>
        </p:nvSpPr>
        <p:spPr>
          <a:xfrm>
            <a:off x="5562720" y="6095880"/>
            <a:ext cx="289548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AMBIAR CONTR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4114800" y="6324480"/>
            <a:ext cx="13716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1"/>
          <p:cNvSpPr/>
          <p:nvPr/>
        </p:nvSpPr>
        <p:spPr>
          <a:xfrm>
            <a:off x="0" y="6019920"/>
            <a:ext cx="544356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MODIFICAR DATOS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- ANULAR-C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 flipV="1">
            <a:off x="228600" y="3047760"/>
            <a:ext cx="1371600" cy="29718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0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Line 2055"/>
          <p:cNvSpPr/>
          <p:nvPr/>
        </p:nvSpPr>
        <p:spPr>
          <a:xfrm flipH="1" flipV="1">
            <a:off x="8215200" y="4357440"/>
            <a:ext cx="928800" cy="25002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056"/>
          <p:cNvSpPr/>
          <p:nvPr/>
        </p:nvSpPr>
        <p:spPr>
          <a:xfrm flipH="1" flipV="1">
            <a:off x="8429760" y="4357440"/>
            <a:ext cx="714240" cy="2500200"/>
          </a:xfrm>
          <a:prstGeom prst="line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057"/>
          <p:cNvSpPr/>
          <p:nvPr/>
        </p:nvSpPr>
        <p:spPr>
          <a:xfrm flipH="1" flipV="1">
            <a:off x="8643600" y="4357440"/>
            <a:ext cx="500040" cy="25002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285840" y="5286240"/>
            <a:ext cx="464328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MODIFICAR DATOS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/CESE/ ANUL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57"/>
          <p:cNvSpPr/>
          <p:nvPr/>
        </p:nvSpPr>
        <p:spPr>
          <a:xfrm flipH="1" flipV="1">
            <a:off x="8643600" y="4357440"/>
            <a:ext cx="500040" cy="25002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 flipV="1">
            <a:off x="2286000" y="4267080"/>
            <a:ext cx="579132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3:15:14Z</dcterms:created>
  <dc:creator>.</dc:creator>
  <dc:description/>
  <dc:language>en-US</dc:language>
  <cp:lastModifiedBy>Lopez</cp:lastModifiedBy>
  <dcterms:modified xsi:type="dcterms:W3CDTF">2009-03-15T02:20:40Z</dcterms:modified>
  <cp:revision>100</cp:revision>
  <dc:subject/>
  <dc:title>Diapositiva 1</dc:title>
</cp:coreProperties>
</file>